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C8C61-625B-4FDB-BB36-01968D667AD1}"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4684-B735-454A-BA00-E465F64A78A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ο-πραξικόπημα (autogolpe) είναι το «πραξικόπημα του οποίου ηγείται ο ίδιος ο επικεφαλής της εκτελεστικής εξουσίας, προκειμένου να διευρύνει τον έλεγχο που ασκεί επί του πολιτικού συστήματος με αντισυνταγματικό τρόπ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679AC-B10C-40EA-8614-9C7069CB85D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στρατιωτικές δικτατορίες, την εξουσία έχει ο στρατός, ο οποίος κυβερνά συνήθως μέσω μιας χούντας, στην οποία συμμετέχουν οι επικεφαλής των όπλων.</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B5FAE-3BFA-429A-8A4A-6E28CBCDB75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ρατιωτικό πραξικόπημα (military coup d'état) είναι η κατάληψη της πολιτικής εξουσίας από το σύνολο ή μέρος των ένοπλων δυνάμεων. Ο όρος φέρνει στο νου εικόνες βίαιης, συνωμοτικής και ανεπιθύμητης κατάληψης της εξουσίας παρά την αντίσταση των πολιτικών ηγετών. Στην πράξη, όμως, πολλά πραξικοπήματα είτε αντικατέστησαν το ένα στρατιωτικό καθεστώς με το άλλο, είτε συνοδεύτηκαν από περιορισμένες ή και μηδενικές απώλειες σε ανθρώπινες ζωές, ενώ κατά το μάλλον ή ήττον ήταν ευπρόσδεκτα για τις προηγούμενες ηγεσί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E43D0-C3B4-4990-82C5-6187407C329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ένα θεοκρατικό σύστημα, όπως στο Ιράν, οι θρησκευτικοί ηγέτες ασκούν άμεσα την εξουσία.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45D2-5933-40CA-A023-3E545F9F420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εοκρατία (theocracy) σημαίνει διακυβέρνηση από τους θρησκευτικούς ηγέτε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αρχαίο Ισραήλ, για παράδειγμα, οι νόμοι του Θεού κηρύττονταν και εφαρμόζονταν από αγίου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Παρότι οι περισσότερες ισλαμικές χώρες διαχωρίζουν τη θρησκευτική από την πολιτική εξουσία, το καθεστώς που εγκαθιδρύθηκε στο Ιράν, μετά την ανατροπή του Shah το 1979, αποτελεί το πιο πρόσφατο παράδειγμα θεοκρατικής εξουσ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3C534-D409-43D7-A933-DA93E37C775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πολυταρχική εξουσία (authoritarian rule) είναι ευρεία κατηγορία, με την οποία αναφερόμαστε σε κάθε είδος μη δημοκρατικού καθεστώτος. Ορισμένοι συγγραφείς χρησιμοποιούν τον όρο πιο στενά, για να διακρίνουν τα απολυταρχικά καθεστώτα από τα ολοκληρωτικά, τα οποία επιδίωκαν την απόλυτη διείσδυση στην κοινωνία, σε μια προσπάθεια -θεωρητική ή πραγματική- να τη μεταμορφώσου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7ADDF-2D82-4AEA-8642-1FA5F2CB6E2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ένα δεσποτικό σύστημα, ένα μόνο πρόσωπο, που δεν οφείλει υπακοή σε κανένα θεσμό, κυβερνά μέσω του φόβου και των ανταμοιβών, βασιζόμενο σε μια προσωπική δύναμη ασφάλειας για να παραμένει στην εξουσ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4ED5A-95CE-492A-956B-E3E505C9AFF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μοναρχία ο κυβερνών βασιλιάς προέρχεται από μια βασιλική οικογένεια, της οποίας τα άλλα μέλη αναλαμβάνουν κρίσιμες πολιτικές και στρατιωτικές θέσεις.</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AA871-35AE-44B5-863E-1C95C79093F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ωτογένεια (primogeniture) αναφέρεται στην αρχή της διαδοχής από το πρωτότοκο τέκνο - συνήθως τον πρωτότοκο γιο. Η μοναρχία που βασίζεται σε αυτό τον κανόνα διαδοχής διατρέχει τον κίνδυνο ο επόμενος ηγεμόνας να μην είναι ικανό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4DA94-B537-4D5A-ACA4-4D442ED10FA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ορισμένα απολυταρχικά καθεστώτα η εξουσία ασκείται από ένα κόμμα που συχνά συνοδεύεται από έναν ισχυρό πρόεδρο.</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98EC-CE5E-47FC-9128-5291D8CECCB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ύμφωνα με τον ορισμό του Lenin, το κόμμα της εμπροσθοφυλακής (vanguard party) αποτελείται από επαναστάτες πλήρους απασχόλησης. Χάρη στο γεγονός ότι κατανοούν τη μαρξιστική σκέψη, μπορούν να δραπετεύσουν από την ιδεολογική, δογματική κατήχηση της παλαιάς τάξης και να εξυψώσουν τη συνείδηση των μαζών τόσο πριν όσο και μετά την επανάσταση. Χωρίς αυτή την καθοδήγηση, οι εργάτες αναπτύσσουν μόνο συνδικαλιστική συνείδη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33E5-005B-48CA-8421-0E96C25E88C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νας πρόεδρος κυριαρχεί στην πολιτική σκηνή (και στα μέσα ενημέρωσης), κρατώντας αφοπλισμένους τους αντιπάλους του και περιθωριοποιώντας την αντιπολίτευση. Παρότι η εξουσία βρίσκεται στα χέρια του συγκεκριμένου ηγέτη, ασκείται μέσω του προεδρικού αξιώματο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F6D62-EA60-4DCE-BFA2-033AF1040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C38DA-C0F4-463C-8CC3-E5DA861AB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79245-1B48-4ED1-9207-72F445DC5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E80F2-DC37-4949-8EE1-BA26833BE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2BDD30-8F33-43F3-8161-FF968E3633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F6EB0-C16A-4536-9A7A-C4DCD2C3C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BC186-C2B4-4115-8760-173FBD864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DD190-F69C-43E3-B227-9366FFB58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68CAC-B104-44AB-88D0-CD94F6561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9E38D-9A69-4F0B-8599-B3760A734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558C5-5D6D-4A6C-B6D6-4F41CE09A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A7E72-A139-4DBE-96C9-8A9AEE8FB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A7C6D-5ABE-484F-BE58-C7C941888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CE0EC-28D1-4E8D-80A4-779B1D46C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10D91-397B-4CCF-8004-27A248362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6944ED-A91C-40AF-B5BE-C6AF9A79C9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E0A158-0C99-4612-AA8F-04D05F81A3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F9371-49F4-4B57-93D7-818E4ACDC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9C1F7-0672-49E0-B723-27CF31BA0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FA418-5F25-41D8-BB5F-11FCC5A5F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C82D9-1738-435F-B86F-EB7491B2E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CE7B7-8722-45DE-8A8E-C8F4BD144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3E28C-54C6-491F-8824-0FF1B82CD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415CD-6207-4673-A932-A963BD49F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5DD8-6646-4437-AC32-B29BB59A7FD5}"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841E-5FF0-4AD4-8195-7C23ED398FFF}"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6</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λυταρχική εξουσί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ρόεδροι</a:t>
            </a:r>
            <a:endParaRPr b="0" lang="en-US" sz="4200" spc="-1" strike="noStrike">
              <a:solidFill>
                <a:srgbClr val="66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υτο-πραξικόπημα (autogolpe) είναι το «πραξικόπημα του οποίου ηγείται ο ίδιος ο επικεφαλής της εκτελεστικής εξουσίας, προκειμένου να διευρύνει τον έλεγχο που ασκεί επί του πολιτικού συστήματος με αντισυνταγματικό τρόπο».</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rcau, 1994</a:t>
            </a:r>
            <a:r>
              <a:rPr b="0" lang="el-G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Ένοπλες δυνάμεις</a:t>
            </a:r>
            <a:endParaRPr b="0" lang="en-US" sz="4200" spc="-1" strike="noStrike">
              <a:solidFill>
                <a:srgbClr val="66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ις στρατιωτικές δικτατορίες, την εξουσία έχει ο στρατός, ο οποίος κυβερνά συνήθως μέσω μιας χούντας, στην οποία συμμετέχουν οι επικεφαλής των όπλ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Ένοπλες δυνάμεις</a:t>
            </a:r>
            <a:endParaRPr b="0" lang="en-US" sz="4200" spc="-1" strike="noStrike">
              <a:solidFill>
                <a:srgbClr val="66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ρατιωτικό πραξικόπημα (military coup d'état) είναι η κατάληψη της πολιτικής εξουσίας από το σύνολο ή μέρος των ένοπλων δυνάμεω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Θρησκευτικοί ηγέτες</a:t>
            </a:r>
            <a:endParaRPr b="0" lang="en-US" sz="4200" spc="-1" strike="noStrike">
              <a:solidFill>
                <a:srgbClr val="660033"/>
              </a:solidFill>
              <a:latin typeface="Times New Roman"/>
            </a:endParaRPr>
          </a:p>
        </p:txBody>
      </p:sp>
      <p:sp>
        <p:nvSpPr>
          <p:cNvPr id="1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πάνια μορφή διακυβέρνησης όπου οι θρησκευτικοί ηγέτες ασκούν άμεσα την εξουσία. Γνωστό επίσης ως θεοκρατί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Θρησκευτικοί ηγέτες</a:t>
            </a:r>
            <a:endParaRPr b="0" lang="en-US" sz="4200" spc="-1" strike="noStrike">
              <a:solidFill>
                <a:srgbClr val="66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Θεοκρατία (theocracy) σημαίνει διακυβέρνηση από τους θρησκευτικούς ηγέτε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4 - TextBox"/>
          <p:cNvSpPr/>
          <p:nvPr/>
        </p:nvSpPr>
        <p:spPr>
          <a:xfrm>
            <a:off x="1219320" y="2328840"/>
            <a:ext cx="701028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φύση της απολυταρχικής εξουσίας</a:t>
            </a:r>
            <a:endParaRPr b="0" lang="en-US" sz="38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απολυταρχική εξουσία (authoritarian rule) είναι ευρεία κατηγορία, με την οποία αναφερόμαστε σε κάθε είδος μη δημοκρατικού καθεστώτο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Μορφές απολυταρχικής εξουσίας</a:t>
            </a:r>
            <a:endParaRPr b="0" lang="en-US" sz="3800" spc="-1" strike="noStrike">
              <a:solidFill>
                <a:srgbClr val="66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εσπότε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ονάρχε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ολιτικά κόμματ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όεδροι</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νοπλες δυνάμει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Θρησκευτικοί ηγέτε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εσπότες</a:t>
            </a:r>
            <a:endParaRPr b="0" lang="en-US" sz="4200" spc="-1" strike="noStrike">
              <a:solidFill>
                <a:srgbClr val="66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να μόνο πρόσωπο, που δεν οφείλει υπακοή σε κανένα θεσμό, κυβερνά μέσω του φόβου και των ανταμοιβών, βασιζόμενο σε μια προσωπική δύναμη ασφάλειας για να παραμένει στην εξουσί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Μονάρχες</a:t>
            </a:r>
            <a:endParaRPr b="0" lang="en-US" sz="4200" spc="-1" strike="noStrike">
              <a:solidFill>
                <a:srgbClr val="66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κυβερνών βασιλιάς προέρχεται από μια βασιλική οικογένεια, της οποίας τα άλλα μέλη αναλαμβάνουν κρίσιμες πολιτικές και στρατιωτικές θέσει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Μονάρχες</a:t>
            </a:r>
            <a:endParaRPr b="0" lang="en-US" sz="4200" spc="-1" strike="noStrike">
              <a:solidFill>
                <a:srgbClr val="66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ρωτογένεια (primogeniture) αναφέρεται στην αρχή της διαδοχής από το πρωτότοκο τέκνο - συνήθως τον πρωτότοκο γιο. Η μοναρχία που βασίζεται σε αυτό τον κανόνα διαδοχής διατρέχει τον κίνδυνο ο επόμενος ηγεμόνας να μην είναι ικανό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ολιτικά κόμματα</a:t>
            </a:r>
            <a:endParaRPr b="0" lang="en-US" sz="4200" spc="-1" strike="noStrike">
              <a:solidFill>
                <a:srgbClr val="66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εξουσία ασκείται από ένα κόμμα που συχνά συνοδεύεται από έναν ισχυρό πρόεδρο.</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ομμουνιστικά κόμματ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Άλλα κυβερνώντα κόμματ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ολιτικά κόμματα</a:t>
            </a:r>
            <a:endParaRPr b="0" lang="en-US" sz="4200" spc="-1" strike="noStrike">
              <a:solidFill>
                <a:srgbClr val="66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ύμφωνα με τον ορισμό του Lenin, το κόμμα της εμπροσθοφυλακής (vanguard party) αποτελείται από επαναστάτες πλήρους απασχόλησης. Χάρη στο γεγονός ότι κατανοούν τη μαρξιστική σκέψη, μπορούν να δραπετεύσουν από την ιδεολογική, δογματική κατήχηση της παλαιάς τάξης και να εξυψώσουν τη συνείδηση των μαζών τόσο πριν όσο και μετά την επανάσταση. Χωρίς αυτή την καθοδήγηση, οι εργάτες αναπτύσσουν μόνο συνδικαλιστική συνείδησ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ρόεδροι</a:t>
            </a:r>
            <a:endParaRPr b="0" lang="en-US" sz="4200" spc="-1" strike="noStrike">
              <a:solidFill>
                <a:srgbClr val="66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νας πρόεδρος κυριαρχεί στην πολιτική σκηνή (και στα μέσα ενημέρωσης), κρατώντας αφοπλισμένους τους αντιπάλους του και περιθωριοποιώντας την αντιπολίτευση. Παρότι η εξουσία βρίσκεται στα χέρια του συγκεκριμένου ηγέτη, ασκείται μέσω του προεδρικού αξιώματο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2T05:19:58Z</dcterms:created>
  <dc:creator>pc</dc:creator>
  <dc:description/>
  <dc:language>en-US</dc:language>
  <cp:lastModifiedBy>EPIMELEIA</cp:lastModifiedBy>
  <dcterms:modified xsi:type="dcterms:W3CDTF">2013-09-23T09:02:36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